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3.jpeg" ContentType="image/jpeg"/>
  <Override PartName="/ppt/media/image45.png" ContentType="image/png"/>
  <Override PartName="/ppt/media/image34.jpeg" ContentType="image/jpeg"/>
  <Override PartName="/ppt/media/image37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jpeg" ContentType="image/jpeg"/>
  <Override PartName="/ppt/media/image40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6CB-9EE1-45E0-AE4A-D7D765E5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F0D2-0083-4950-B2E7-78B892C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42407-8FC3-4145-8C42-BC36AFAB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1370-8FA2-4CEC-86D2-1716EAA4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A45E8F-E54A-4ACD-98E7-106686F9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3B9FF-63E9-4CE5-8A13-846AA618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B6AA-2D5E-477A-A792-5366B8C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393B3-38D8-4FF3-B65A-B6F1624F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F0B77-8702-4C42-BA73-D42D8149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AEADE-C793-4F43-BED3-3A73C5F9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F131A-34FC-4CBF-8A22-1C63EFB0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43D-9CAF-4198-BC98-4AF9F2D7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6F9-25E7-4824-91A9-F809BFDF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6A4D-B3F6-4D1D-9618-655BB20A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3BF0-929F-47F9-9C6B-D76C13AC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0670-4703-4875-8E4E-83214DB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D726-0AB4-41EF-AC78-9A7E372F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EBFB-C3F6-48D3-83C4-8DF788B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20D3-7AC8-420D-88D7-BE0CC398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319-2C8D-46EC-ADC3-6520784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EB7-278A-4661-A6FB-EAF0B466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3F7F-DD99-4FDB-B813-83B54DE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C80A-5218-4BF1-BA76-F4E1040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F4D5-7CE1-4959-8957-74711FB7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06CA-E52C-46A5-AF83-FDF41F18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DEB8-FAB4-4495-A12D-432FB1A8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75480-A3FA-4369-AC80-729DA32C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8D03-DE79-4C3A-8CD3-F703B6E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210C-F116-4C43-8712-E66327FC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E5ED6-C050-43AF-8598-6F8CFE2F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8C06F-7BC0-4A34-A299-D3925E4D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E8F-A226-406A-B8D3-9D286D6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0E788-798C-4427-B1E6-AE90A8F2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7B7E8-89A2-4C47-8C60-A5016721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AD36-376E-4459-A9FD-5C500FD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DE4CD-0A24-4D58-B61F-2F3D091D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B8D3-B48D-4AD4-8DB9-E14B57FF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1766-4D6D-487E-AD17-F52A0A3F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DCB0-3A26-4A69-AD75-07DDD6C2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FD28E-8E85-493A-AE6A-43DCD672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95AEB-B57B-42E3-A4B4-84E4F81D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E09E4-CD4E-4F03-994F-B5E814D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1D01-4D69-48C6-9DF6-47C79A2E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E0C5-8BCE-4F62-B00A-33354B34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B445-57A5-45DA-9963-A41B4DDA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12FAA-5ACB-4707-B9C4-EEF0BEE7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E902-0F93-4D42-9F04-3FD88D68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3F82-CC59-49ED-91E9-3B30CB92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5F84-E710-4945-B3DF-BFE99E11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8270-449D-40D4-A665-BE1321B1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F470-1A08-4507-993D-DEF75BD0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6BD18-E1D8-4DBA-ABCF-F339B89D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821D-3FD1-4DC4-BEBF-192C35CC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AFD-FAA0-4621-BC61-D68B2457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EA008-820D-42A2-8C4A-088147D1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50AD-7725-49D8-9BDE-1B9B8832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125D-1ECA-4653-862F-91D6ACBC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45F9C-397C-4F54-B7A8-249B2C7C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C226-4FA8-493F-BEC6-4CDEFDCC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C055-6896-4EDC-90AF-B311EBB3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F4D72-A122-4E46-B4A3-12B84F3A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DE475-8327-427B-BD96-D8294BB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E595-8FF0-4E96-805C-94EFE03B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FDDEB-C1D2-4EA6-9353-8E11966C0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A80-79D6-4487-A50A-BF0FAA94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3CF0D-5C7F-45A7-BAEF-FC473C94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94A05-15BF-4236-BAA8-C3361BBD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B3AE5-26B2-451D-80AD-C8A413DE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FAA0-443F-4E1F-8C81-42AC6211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9CD57-8CD8-4236-BD0D-CEB9D221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B84EC-471C-4082-8B78-CA505F60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CD2BA-946E-494E-BA0C-7C39251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A35C-2929-474C-8D40-FEE5ED8F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26FA1-8814-4F9B-ABD9-8A65040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680B1-2E0F-4A5A-A93A-651B56CB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B8C-CB01-41F0-B1C2-8100E4F3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D1F06-828A-474C-AE8C-AF4E96B6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D3920-3A4F-49A5-A052-8E8EDAF6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5DD1-8FE9-40B8-97E1-D5597FD6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97720-B648-4D3C-9CAA-36907149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E6D5-BC2A-4460-BBB6-AEACAF19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4F31-299C-4EBC-AB13-131716AF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F6664-EFA8-4806-8BD9-C361FD5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EFEFC-B406-4B4A-806C-E7D14CB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80F98-8F16-4BC1-9FCB-539610C1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027F-FA5A-4864-85A5-5977D16F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E49-A37F-4867-B563-8E75C82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7B7DC-2BA1-4FF5-BE7C-02EF58E0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612A9-69B3-4DB9-A701-483B303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8DBDF-D213-430F-ACF2-E89A504B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C7BE0-2B47-468F-985D-2DE5A642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ECD67-406F-4038-9ABA-8672FB2F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19D9F-D35F-4BFE-AE55-F82905AB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676A-D59C-420A-A25C-38AC244C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9DA16-F457-4B45-AA7B-A41801D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DEE3E-1AED-4E07-96DE-66CB7E04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4F7A0-E09D-4D16-894A-D5A10B82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09B-7FE6-4CCA-89B3-EC79668E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5B118-F32B-4FEB-8271-FDDA0AC5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754D6-D615-4CBD-BE51-B83B8758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8D3DA-C8EE-4855-86D6-E188003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C1FD1-AF3E-4CF3-8A17-F108D4E1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F5396-AE6C-457E-8A67-2D51B1D4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1BCA3-526E-4C36-A053-8A705CFF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A984D-D832-473D-BCC4-DDF63D9D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C5780-3D5B-46F8-9310-EDFF9C23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823D6-B415-447C-8FEF-A122F911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80E20-8305-4BAE-BD01-61AC2E58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nettore 1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nettore 1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3F7-6F67-4DA1-877A-2E31E1DD910A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nettore 1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nettore 1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nettore 1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nettore 1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nettore 1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6A3F-B15A-4CF5-A703-76BAE33025E8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nettore 1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nettore 1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nettore 1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nettore 1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nettore 1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nettore 1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1454-63C7-46BA-80F0-C4DAD8DF0E5F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nettore 1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9E64-9B66-40C8-89A6-F4C2BD94B3D0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nettore 1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A314-9EF8-40C5-9FD0-D3BB4112F498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CCAB-255B-4E79-B41A-A2CC4893EB8B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nettore 1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nettore 1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C4B1-E9ED-4596-802C-7085E1D295C3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88F2-EA0F-44A2-BF0C-E3D8FF424AA7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F570-3978-41F3-9030-EBE277DC81CF}" type="slidenum">
              <a:rPr b="0" lang="it-IT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1280" y="549000"/>
            <a:ext cx="87123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4e3b30"/>
                </a:solidFill>
                <a:latin typeface="Showcard Gothic"/>
              </a:rPr>
              <a:t>AUTOPRESENTAZIONE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Sottotitolo 2"/>
          <p:cNvSpPr/>
          <p:nvPr/>
        </p:nvSpPr>
        <p:spPr>
          <a:xfrm>
            <a:off x="360360" y="5300640"/>
            <a:ext cx="8675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Corso di Matematiche Elementari da un punto di vista Superiore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A.A. 2012-2013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Lavoro eseguito da 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Franklin Gothic Book"/>
              </a:rPr>
              <a:t>Elisa Testi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1" name="Picture 3" descr="D:\ELISA\Immagini e foto\FOTO\matrimonio sara\Immagine 070.jpg"/>
          <p:cNvPicPr/>
          <p:nvPr/>
        </p:nvPicPr>
        <p:blipFill>
          <a:blip r:embed="rId1"/>
          <a:stretch/>
        </p:blipFill>
        <p:spPr>
          <a:xfrm>
            <a:off x="3373560" y="1531800"/>
            <a:ext cx="2743200" cy="3657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ottotitolo 2"/>
          <p:cNvSpPr/>
          <p:nvPr/>
        </p:nvSpPr>
        <p:spPr>
          <a:xfrm>
            <a:off x="468360" y="5157720"/>
            <a:ext cx="867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9" name="Picture 2" descr="C:\Documents and Settings\Elisa\Desktop\Immagine 155.JPG"/>
          <p:cNvPicPr/>
          <p:nvPr/>
        </p:nvPicPr>
        <p:blipFill>
          <a:blip r:embed="rId1"/>
          <a:stretch/>
        </p:blipFill>
        <p:spPr>
          <a:xfrm rot="19938000">
            <a:off x="704880" y="2433240"/>
            <a:ext cx="3867120" cy="29005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Documents and Settings\Elisa\Desktop\Immagine 167.JPG"/>
          <p:cNvPicPr/>
          <p:nvPr/>
        </p:nvPicPr>
        <p:blipFill>
          <a:blip r:embed="rId2"/>
          <a:stretch/>
        </p:blipFill>
        <p:spPr>
          <a:xfrm rot="1192200">
            <a:off x="4581000" y="15030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4" descr="C:\Documents and Settings\Elisa\Desktop\Immagine 146.JPG"/>
          <p:cNvPicPr/>
          <p:nvPr/>
        </p:nvPicPr>
        <p:blipFill>
          <a:blip r:embed="rId3"/>
          <a:stretch/>
        </p:blipFill>
        <p:spPr>
          <a:xfrm>
            <a:off x="4643280" y="4076640"/>
            <a:ext cx="3313440" cy="2484360"/>
          </a:xfrm>
          <a:prstGeom prst="rect">
            <a:avLst/>
          </a:prstGeom>
          <a:ln w="0">
            <a:noFill/>
          </a:ln>
        </p:spPr>
      </p:pic>
      <p:pic>
        <p:nvPicPr>
          <p:cNvPr id="442" name="Titolo 1" descr=""/>
          <p:cNvPicPr/>
          <p:nvPr/>
        </p:nvPicPr>
        <p:blipFill>
          <a:blip r:embed="rId4"/>
          <a:stretch/>
        </p:blipFill>
        <p:spPr>
          <a:xfrm>
            <a:off x="738360" y="328680"/>
            <a:ext cx="7808760" cy="1914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F:\foto\2010\compleanno elisa e pina\IMG_3364.JPG"/>
          <p:cNvPicPr/>
          <p:nvPr/>
        </p:nvPicPr>
        <p:blipFill>
          <a:blip r:embed="rId1"/>
          <a:stretch/>
        </p:blipFill>
        <p:spPr>
          <a:xfrm>
            <a:off x="2484360" y="3500280"/>
            <a:ext cx="4108680" cy="2743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" descr="F:\foto\2008\matrimonio anna sergio\IMG_0093.JPG"/>
          <p:cNvPicPr/>
          <p:nvPr/>
        </p:nvPicPr>
        <p:blipFill>
          <a:blip r:embed="rId2"/>
          <a:stretch/>
        </p:blipFill>
        <p:spPr>
          <a:xfrm rot="1358400">
            <a:off x="5098680" y="143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" descr="F:\foto\2008\Palio_Uboldo_2008447.jpg"/>
          <p:cNvPicPr/>
          <p:nvPr/>
        </p:nvPicPr>
        <p:blipFill>
          <a:blip r:embed="rId3"/>
          <a:stretch/>
        </p:blipFill>
        <p:spPr>
          <a:xfrm rot="20278200">
            <a:off x="363600" y="1439640"/>
            <a:ext cx="4130640" cy="2743200"/>
          </a:xfrm>
          <a:prstGeom prst="rect">
            <a:avLst/>
          </a:prstGeom>
          <a:ln w="0">
            <a:noFill/>
          </a:ln>
        </p:spPr>
      </p:pic>
      <p:pic>
        <p:nvPicPr>
          <p:cNvPr id="446" name="Titolo 1" descr=""/>
          <p:cNvPicPr/>
          <p:nvPr/>
        </p:nvPicPr>
        <p:blipFill>
          <a:blip r:embed="rId4"/>
          <a:stretch/>
        </p:blipFill>
        <p:spPr>
          <a:xfrm>
            <a:off x="341280" y="469800"/>
            <a:ext cx="8521560" cy="1077840"/>
          </a:xfrm>
          <a:prstGeom prst="rect">
            <a:avLst/>
          </a:prstGeom>
          <a:ln w="0">
            <a:noFill/>
          </a:ln>
        </p:spPr>
      </p:pic>
      <p:sp>
        <p:nvSpPr>
          <p:cNvPr id="447" name="Sottotitolo 2"/>
          <p:cNvSpPr/>
          <p:nvPr/>
        </p:nvSpPr>
        <p:spPr>
          <a:xfrm>
            <a:off x="324000" y="2133720"/>
            <a:ext cx="111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Pi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Sottotitolo 2"/>
          <p:cNvSpPr/>
          <p:nvPr/>
        </p:nvSpPr>
        <p:spPr>
          <a:xfrm>
            <a:off x="1116000" y="1484280"/>
            <a:ext cx="136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Laur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9" name="Sottotitolo 2"/>
          <p:cNvSpPr/>
          <p:nvPr/>
        </p:nvSpPr>
        <p:spPr>
          <a:xfrm>
            <a:off x="4716360" y="3573360"/>
            <a:ext cx="1727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Samuel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Sottotitolo 2"/>
          <p:cNvSpPr/>
          <p:nvPr/>
        </p:nvSpPr>
        <p:spPr>
          <a:xfrm>
            <a:off x="5580000" y="5661000"/>
            <a:ext cx="12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Paol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Sottotitolo 2"/>
          <p:cNvSpPr/>
          <p:nvPr/>
        </p:nvSpPr>
        <p:spPr>
          <a:xfrm>
            <a:off x="6622920" y="3933720"/>
            <a:ext cx="1262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Ann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Sottotitolo 2"/>
          <p:cNvSpPr/>
          <p:nvPr/>
        </p:nvSpPr>
        <p:spPr>
          <a:xfrm>
            <a:off x="4788000" y="1413000"/>
            <a:ext cx="100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Delia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Sottotitolo 2"/>
          <p:cNvSpPr/>
          <p:nvPr/>
        </p:nvSpPr>
        <p:spPr>
          <a:xfrm>
            <a:off x="1332000" y="616572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Sottotitolo 2"/>
          <p:cNvSpPr/>
          <p:nvPr/>
        </p:nvSpPr>
        <p:spPr>
          <a:xfrm>
            <a:off x="684360" y="1628640"/>
            <a:ext cx="1942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Sottotitolo 2"/>
          <p:cNvSpPr/>
          <p:nvPr/>
        </p:nvSpPr>
        <p:spPr>
          <a:xfrm>
            <a:off x="2700360" y="3573360"/>
            <a:ext cx="190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Bepp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Sottotitolo 2"/>
          <p:cNvSpPr/>
          <p:nvPr/>
        </p:nvSpPr>
        <p:spPr>
          <a:xfrm>
            <a:off x="7308720" y="3573360"/>
            <a:ext cx="24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c000"/>
                </a:solidFill>
                <a:latin typeface="Franklin Gothic Book"/>
              </a:rPr>
              <a:t>Edoard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Titolo 1" descr=""/>
          <p:cNvPicPr/>
          <p:nvPr/>
        </p:nvPicPr>
        <p:blipFill>
          <a:blip r:embed="rId1"/>
          <a:stretch/>
        </p:blipFill>
        <p:spPr>
          <a:xfrm>
            <a:off x="268200" y="317520"/>
            <a:ext cx="8521920" cy="1030320"/>
          </a:xfrm>
          <a:prstGeom prst="rect">
            <a:avLst/>
          </a:prstGeom>
          <a:ln w="0">
            <a:noFill/>
          </a:ln>
        </p:spPr>
      </p:pic>
      <p:sp>
        <p:nvSpPr>
          <p:cNvPr id="458" name="Sottotitolo 2"/>
          <p:cNvSpPr/>
          <p:nvPr/>
        </p:nvSpPr>
        <p:spPr>
          <a:xfrm>
            <a:off x="324000" y="5300640"/>
            <a:ext cx="8675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Franklin Gothic Book"/>
              </a:rPr>
              <a:t>La Val di Cogne ...dove ho trascorso le estati della mia infanzia con la mia famiglia e il “Bel Vedere”, un campo di proprietà dove, da piccola andavo a giocare con il nonno e dove, tra qualche anno, sorgerà la casa che ho sempre sognato: una villetta circondata da prato e da alberi da frutto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1" descr="F:\foto\2010\cogne\IMG_3245.JPG"/>
          <p:cNvPicPr/>
          <p:nvPr/>
        </p:nvPicPr>
        <p:blipFill>
          <a:blip r:embed="rId2"/>
          <a:stretch/>
        </p:blipFill>
        <p:spPr>
          <a:xfrm>
            <a:off x="250920" y="1268280"/>
            <a:ext cx="4392360" cy="23767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2" descr="F:\daniel\progetto belvedere\foto campo\22052010187.jpg"/>
          <p:cNvPicPr/>
          <p:nvPr/>
        </p:nvPicPr>
        <p:blipFill>
          <a:blip r:embed="rId3"/>
          <a:stretch/>
        </p:blipFill>
        <p:spPr>
          <a:xfrm>
            <a:off x="4716360" y="1700280"/>
            <a:ext cx="4194360" cy="2592360"/>
          </a:xfrm>
          <a:prstGeom prst="rect">
            <a:avLst/>
          </a:prstGeom>
          <a:ln w="0">
            <a:noFill/>
          </a:ln>
        </p:spPr>
      </p:pic>
      <p:sp>
        <p:nvSpPr>
          <p:cNvPr id="461" name="CasellaDiTesto 10"/>
          <p:cNvSpPr/>
          <p:nvPr/>
        </p:nvSpPr>
        <p:spPr>
          <a:xfrm>
            <a:off x="684360" y="3933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Val di Cogne (Ao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CasellaDiTesto 11"/>
          <p:cNvSpPr/>
          <p:nvPr/>
        </p:nvSpPr>
        <p:spPr>
          <a:xfrm>
            <a:off x="4859280" y="4508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Bel Vedere, Uboldo (Va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Immagine 5" descr="teoria_colori4.jpg"/>
          <p:cNvPicPr/>
          <p:nvPr/>
        </p:nvPicPr>
        <p:blipFill>
          <a:blip r:embed="rId1"/>
          <a:stretch/>
        </p:blipFill>
        <p:spPr>
          <a:xfrm>
            <a:off x="324000" y="1628640"/>
            <a:ext cx="8424720" cy="4942080"/>
          </a:xfrm>
          <a:prstGeom prst="rect">
            <a:avLst/>
          </a:prstGeom>
          <a:ln w="0">
            <a:noFill/>
          </a:ln>
        </p:spPr>
      </p:pic>
      <p:pic>
        <p:nvPicPr>
          <p:cNvPr id="464" name="Titolo 1" descr=""/>
          <p:cNvPicPr/>
          <p:nvPr/>
        </p:nvPicPr>
        <p:blipFill>
          <a:blip r:embed="rId2"/>
          <a:stretch/>
        </p:blipFill>
        <p:spPr>
          <a:xfrm>
            <a:off x="268200" y="317520"/>
            <a:ext cx="8521920" cy="1084320"/>
          </a:xfrm>
          <a:prstGeom prst="rect">
            <a:avLst/>
          </a:prstGeom>
          <a:ln w="0">
            <a:noFill/>
          </a:ln>
        </p:spPr>
      </p:pic>
      <p:sp>
        <p:nvSpPr>
          <p:cNvPr id="465" name="Sottotitolo 2"/>
          <p:cNvSpPr/>
          <p:nvPr/>
        </p:nvSpPr>
        <p:spPr>
          <a:xfrm>
            <a:off x="324000" y="2205000"/>
            <a:ext cx="828036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pazien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   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dinamica                   socievo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allegra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             sincer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gelosa            testard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	</a:t>
            </a:r>
            <a:r>
              <a:rPr b="1" i="1" lang="it-IT" sz="3600" spc="-1" strike="noStrike">
                <a:solidFill>
                  <a:srgbClr val="002060"/>
                </a:solidFill>
                <a:latin typeface="Calisto MT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olo 1" descr=""/>
          <p:cNvPicPr/>
          <p:nvPr/>
        </p:nvPicPr>
        <p:blipFill>
          <a:blip r:embed="rId1"/>
          <a:stretch/>
        </p:blipFill>
        <p:spPr>
          <a:xfrm>
            <a:off x="341280" y="822240"/>
            <a:ext cx="8521560" cy="1092240"/>
          </a:xfrm>
          <a:prstGeom prst="rect">
            <a:avLst/>
          </a:prstGeom>
          <a:ln w="0">
            <a:noFill/>
          </a:ln>
        </p:spPr>
      </p:pic>
      <p:sp>
        <p:nvSpPr>
          <p:cNvPr id="467" name="Sottotitolo 2"/>
          <p:cNvSpPr/>
          <p:nvPr/>
        </p:nvSpPr>
        <p:spPr>
          <a:xfrm>
            <a:off x="324000" y="1916280"/>
            <a:ext cx="532764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brontolon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gelos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permalos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poco sportiv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testard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8" name="Picture 2" descr="http://arjelle.altervista.org/Tesine/Irene/diavoletto.png"/>
          <p:cNvPicPr/>
          <p:nvPr/>
        </p:nvPicPr>
        <p:blipFill>
          <a:blip r:embed="rId2"/>
          <a:stretch/>
        </p:blipFill>
        <p:spPr>
          <a:xfrm>
            <a:off x="4643280" y="2349360"/>
            <a:ext cx="3600720" cy="3800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olo 1" descr=""/>
          <p:cNvPicPr/>
          <p:nvPr/>
        </p:nvPicPr>
        <p:blipFill>
          <a:blip r:embed="rId1"/>
          <a:stretch/>
        </p:blipFill>
        <p:spPr>
          <a:xfrm>
            <a:off x="554040" y="828720"/>
            <a:ext cx="7596360" cy="1060560"/>
          </a:xfrm>
          <a:prstGeom prst="rect">
            <a:avLst/>
          </a:prstGeom>
          <a:ln w="0">
            <a:noFill/>
          </a:ln>
        </p:spPr>
      </p:pic>
      <p:sp>
        <p:nvSpPr>
          <p:cNvPr id="470" name="Sottotitolo 2"/>
          <p:cNvSpPr/>
          <p:nvPr/>
        </p:nvSpPr>
        <p:spPr>
          <a:xfrm>
            <a:off x="5292720" y="1844640"/>
            <a:ext cx="33829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generos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intelligen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cordia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solar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pazient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servizievo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ordinat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Calisto MT"/>
              </a:rPr>
              <a:t>determinata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b58b8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1" name="Picture 2" descr="http://www.ilpaesedeibambinichesorridono.it/images/angolo_poesia/poesie_adulti/paradiso/15.gif"/>
          <p:cNvPicPr/>
          <p:nvPr/>
        </p:nvPicPr>
        <p:blipFill>
          <a:blip r:embed="rId2"/>
          <a:stretch/>
        </p:blipFill>
        <p:spPr>
          <a:xfrm>
            <a:off x="826920" y="1989000"/>
            <a:ext cx="3313440" cy="4334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olo 1" descr=""/>
          <p:cNvPicPr/>
          <p:nvPr/>
        </p:nvPicPr>
        <p:blipFill>
          <a:blip r:embed="rId1"/>
          <a:stretch/>
        </p:blipFill>
        <p:spPr>
          <a:xfrm>
            <a:off x="738360" y="615960"/>
            <a:ext cx="7808760" cy="2163600"/>
          </a:xfrm>
          <a:prstGeom prst="rect">
            <a:avLst/>
          </a:prstGeom>
          <a:ln w="0">
            <a:noFill/>
          </a:ln>
        </p:spPr>
      </p:pic>
      <p:sp>
        <p:nvSpPr>
          <p:cNvPr id="403" name="Sottotitolo 2"/>
          <p:cNvSpPr/>
          <p:nvPr/>
        </p:nvSpPr>
        <p:spPr>
          <a:xfrm>
            <a:off x="3203640" y="2421000"/>
            <a:ext cx="5400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Sono Elisa Testi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Sono nata a Tradate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il 26 Ottobre 1978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Vivo ad Uboldo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in provincia di Vare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4" name="Picture 1" descr="F:\foto\2004\laurea daniel\Laurea barcella\DSCN0007.JPG"/>
          <p:cNvPicPr/>
          <p:nvPr/>
        </p:nvPicPr>
        <p:blipFill>
          <a:blip r:embed="rId2"/>
          <a:stretch/>
        </p:blipFill>
        <p:spPr>
          <a:xfrm>
            <a:off x="324000" y="2276640"/>
            <a:ext cx="4394160" cy="3297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olo 1" descr=""/>
          <p:cNvPicPr/>
          <p:nvPr/>
        </p:nvPicPr>
        <p:blipFill>
          <a:blip r:embed="rId1"/>
          <a:stretch/>
        </p:blipFill>
        <p:spPr>
          <a:xfrm>
            <a:off x="738360" y="615960"/>
            <a:ext cx="7808760" cy="1633680"/>
          </a:xfrm>
          <a:prstGeom prst="rect">
            <a:avLst/>
          </a:prstGeom>
          <a:ln w="0">
            <a:noFill/>
          </a:ln>
        </p:spPr>
      </p:pic>
      <p:sp>
        <p:nvSpPr>
          <p:cNvPr id="406" name="Titolo 1"/>
          <p:cNvSpPr/>
          <p:nvPr/>
        </p:nvSpPr>
        <p:spPr>
          <a:xfrm>
            <a:off x="785880" y="5495760"/>
            <a:ext cx="777240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Picture 2" descr="F:\Elisa\foto eli\vecchie\Senza titolo-8a.jpg"/>
          <p:cNvPicPr/>
          <p:nvPr/>
        </p:nvPicPr>
        <p:blipFill>
          <a:blip r:embed="rId2"/>
          <a:stretch/>
        </p:blipFill>
        <p:spPr>
          <a:xfrm>
            <a:off x="755640" y="1989000"/>
            <a:ext cx="2749680" cy="36576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F:\Elisa\foto eli\vecchie\Senza titolo-7a.jpg"/>
          <p:cNvPicPr/>
          <p:nvPr/>
        </p:nvPicPr>
        <p:blipFill>
          <a:blip r:embed="rId3"/>
          <a:stretch/>
        </p:blipFill>
        <p:spPr>
          <a:xfrm>
            <a:off x="5292720" y="1989000"/>
            <a:ext cx="2468520" cy="3657600"/>
          </a:xfrm>
          <a:prstGeom prst="rect">
            <a:avLst/>
          </a:prstGeom>
          <a:ln w="0">
            <a:noFill/>
          </a:ln>
        </p:spPr>
      </p:pic>
      <p:sp>
        <p:nvSpPr>
          <p:cNvPr id="409" name="CasellaDiTesto 6"/>
          <p:cNvSpPr/>
          <p:nvPr/>
        </p:nvSpPr>
        <p:spPr>
          <a:xfrm>
            <a:off x="1042920" y="58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Estate 1980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CasellaDiTesto 8"/>
          <p:cNvSpPr/>
          <p:nvPr/>
        </p:nvSpPr>
        <p:spPr>
          <a:xfrm>
            <a:off x="5508720" y="5805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Franklin Gothic Book"/>
              </a:rPr>
              <a:t>Estate  198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olo 1" descr=""/>
          <p:cNvPicPr/>
          <p:nvPr/>
        </p:nvPicPr>
        <p:blipFill>
          <a:blip r:embed="rId1"/>
          <a:stretch/>
        </p:blipFill>
        <p:spPr>
          <a:xfrm>
            <a:off x="665280" y="255600"/>
            <a:ext cx="7808760" cy="2584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F:\foto\2007\Matrimonio MIO\foto franci\IMG_0033.JPG"/>
          <p:cNvPicPr/>
          <p:nvPr/>
        </p:nvPicPr>
        <p:blipFill>
          <a:blip r:embed="rId2"/>
          <a:stretch/>
        </p:blipFill>
        <p:spPr>
          <a:xfrm>
            <a:off x="971640" y="1700280"/>
            <a:ext cx="2592360" cy="3889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F:\foto\2007\Matrimonio MIO\foto franci\IMG_0025.JPG"/>
          <p:cNvPicPr/>
          <p:nvPr/>
        </p:nvPicPr>
        <p:blipFill>
          <a:blip r:embed="rId3"/>
          <a:stretch/>
        </p:blipFill>
        <p:spPr>
          <a:xfrm>
            <a:off x="5435640" y="1773360"/>
            <a:ext cx="2527200" cy="3789360"/>
          </a:xfrm>
          <a:prstGeom prst="rect">
            <a:avLst/>
          </a:prstGeom>
          <a:ln w="0">
            <a:noFill/>
          </a:ln>
        </p:spPr>
      </p:pic>
      <p:sp>
        <p:nvSpPr>
          <p:cNvPr id="414" name="Sottotitolo 2"/>
          <p:cNvSpPr/>
          <p:nvPr/>
        </p:nvSpPr>
        <p:spPr>
          <a:xfrm>
            <a:off x="1835280" y="5589720"/>
            <a:ext cx="532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Mio papà Bruno, mia mamma Rita e mio fratello Paolo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olo 1" descr=""/>
          <p:cNvPicPr/>
          <p:nvPr/>
        </p:nvPicPr>
        <p:blipFill>
          <a:blip r:embed="rId1"/>
          <a:stretch/>
        </p:blipFill>
        <p:spPr>
          <a:xfrm>
            <a:off x="884160" y="328680"/>
            <a:ext cx="7802640" cy="2560680"/>
          </a:xfrm>
          <a:prstGeom prst="rect">
            <a:avLst/>
          </a:prstGeom>
          <a:ln w="0">
            <a:noFill/>
          </a:ln>
        </p:spPr>
      </p:pic>
      <p:sp>
        <p:nvSpPr>
          <p:cNvPr id="416" name="Sottotitolo 2"/>
          <p:cNvSpPr/>
          <p:nvPr/>
        </p:nvSpPr>
        <p:spPr>
          <a:xfrm>
            <a:off x="-36360" y="5589720"/>
            <a:ext cx="921672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Sottotitolo 2"/>
          <p:cNvSpPr/>
          <p:nvPr/>
        </p:nvSpPr>
        <p:spPr>
          <a:xfrm>
            <a:off x="1835280" y="5589720"/>
            <a:ext cx="532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Franklin Gothic Book"/>
              </a:rPr>
              <a:t>15 Settembre 2007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Franklin Gothic Book"/>
              </a:rPr>
              <a:t>Elisa &amp; Dani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8" name="Picture 2" descr="C:\Documents and Settings\Elisa\Desktop\IMG_0148.JPG"/>
          <p:cNvPicPr/>
          <p:nvPr/>
        </p:nvPicPr>
        <p:blipFill>
          <a:blip r:embed="rId2"/>
          <a:stretch/>
        </p:blipFill>
        <p:spPr>
          <a:xfrm>
            <a:off x="6084720" y="2133720"/>
            <a:ext cx="2438640" cy="3657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Documents and Settings\Elisa\Desktop\IMG_0064.JPG"/>
          <p:cNvPicPr/>
          <p:nvPr/>
        </p:nvPicPr>
        <p:blipFill>
          <a:blip r:embed="rId3"/>
          <a:stretch/>
        </p:blipFill>
        <p:spPr>
          <a:xfrm>
            <a:off x="3276720" y="234936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Elisa\Desktop\XK5K9634.jpg"/>
          <p:cNvPicPr/>
          <p:nvPr/>
        </p:nvPicPr>
        <p:blipFill>
          <a:blip r:embed="rId4"/>
          <a:stretch/>
        </p:blipFill>
        <p:spPr>
          <a:xfrm rot="20637600">
            <a:off x="539280" y="191628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D:\ELISA\Immagini e foto\Matrimonio MIO\foto franci\XK5K9602.JPG"/>
          <p:cNvPicPr/>
          <p:nvPr/>
        </p:nvPicPr>
        <p:blipFill>
          <a:blip r:embed="rId5"/>
          <a:stretch/>
        </p:blipFill>
        <p:spPr>
          <a:xfrm rot="557400">
            <a:off x="678960" y="4164120"/>
            <a:ext cx="1219320" cy="182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4360" y="4581000"/>
            <a:ext cx="7772400" cy="18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2b1"/>
                </a:solidFill>
                <a:latin typeface="Franklin Gothic Book"/>
              </a:rPr>
              <a:t>E’ il 14 maggio 2011 h.14.24</a:t>
            </a:r>
            <a:endParaRPr b="0" lang="en-US" sz="3000" spc="-1" strike="noStrike">
              <a:solidFill>
                <a:srgbClr val="fbeec9"/>
              </a:solidFill>
              <a:latin typeface="Franklin Gothic Book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ddd2b1"/>
                </a:solidFill>
                <a:latin typeface="Franklin Gothic Book"/>
              </a:rPr>
              <a:t>Nasce Matteo, Kg  3,860, h. Cm 52</a:t>
            </a:r>
            <a:endParaRPr b="0" lang="en-US" sz="30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23" name="Titolo 1" descr=""/>
          <p:cNvPicPr/>
          <p:nvPr/>
        </p:nvPicPr>
        <p:blipFill>
          <a:blip r:embed="rId1"/>
          <a:stretch/>
        </p:blipFill>
        <p:spPr>
          <a:xfrm>
            <a:off x="523800" y="255600"/>
            <a:ext cx="7802640" cy="232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F:\foto\matteo\matteo 0-1m\IMG_3925.JPG"/>
          <p:cNvPicPr/>
          <p:nvPr/>
        </p:nvPicPr>
        <p:blipFill>
          <a:blip r:embed="rId2"/>
          <a:stretch/>
        </p:blipFill>
        <p:spPr>
          <a:xfrm>
            <a:off x="2050920" y="1844640"/>
            <a:ext cx="5185080" cy="3460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olo 1" descr=""/>
          <p:cNvPicPr/>
          <p:nvPr/>
        </p:nvPicPr>
        <p:blipFill>
          <a:blip r:embed="rId1"/>
          <a:stretch/>
        </p:blipFill>
        <p:spPr>
          <a:xfrm>
            <a:off x="738360" y="469800"/>
            <a:ext cx="7808760" cy="1913040"/>
          </a:xfrm>
          <a:prstGeom prst="rect">
            <a:avLst/>
          </a:prstGeom>
          <a:ln w="0">
            <a:noFill/>
          </a:ln>
        </p:spPr>
      </p:pic>
      <p:sp>
        <p:nvSpPr>
          <p:cNvPr id="426" name="Sottotitolo 2"/>
          <p:cNvSpPr/>
          <p:nvPr/>
        </p:nvSpPr>
        <p:spPr>
          <a:xfrm>
            <a:off x="468360" y="5157720"/>
            <a:ext cx="8675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7" name="Picture 2" descr="F:\foto\matteo\matteo 6-12\a.jpg"/>
          <p:cNvPicPr/>
          <p:nvPr/>
        </p:nvPicPr>
        <p:blipFill>
          <a:blip r:embed="rId2"/>
          <a:stretch/>
        </p:blipFill>
        <p:spPr>
          <a:xfrm>
            <a:off x="1979640" y="1989000"/>
            <a:ext cx="5346720" cy="3657600"/>
          </a:xfrm>
          <a:prstGeom prst="rect">
            <a:avLst/>
          </a:prstGeom>
          <a:ln w="0">
            <a:noFill/>
          </a:ln>
        </p:spPr>
      </p:pic>
      <p:sp>
        <p:nvSpPr>
          <p:cNvPr id="428" name="CasellaDiTesto 5"/>
          <p:cNvSpPr/>
          <p:nvPr/>
        </p:nvSpPr>
        <p:spPr>
          <a:xfrm>
            <a:off x="1908000" y="5877000"/>
            <a:ext cx="55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Il nostro primo Natale insie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olo 1" descr=""/>
          <p:cNvPicPr/>
          <p:nvPr/>
        </p:nvPicPr>
        <p:blipFill>
          <a:blip r:embed="rId1"/>
          <a:stretch/>
        </p:blipFill>
        <p:spPr>
          <a:xfrm>
            <a:off x="665280" y="396720"/>
            <a:ext cx="7808760" cy="1640160"/>
          </a:xfrm>
          <a:prstGeom prst="rect">
            <a:avLst/>
          </a:prstGeom>
          <a:ln w="0">
            <a:noFill/>
          </a:ln>
        </p:spPr>
      </p:pic>
      <p:sp>
        <p:nvSpPr>
          <p:cNvPr id="430" name="Sottotitolo 2"/>
          <p:cNvSpPr/>
          <p:nvPr/>
        </p:nvSpPr>
        <p:spPr>
          <a:xfrm>
            <a:off x="468360" y="4869000"/>
            <a:ext cx="8424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Franklin Gothic Book"/>
              </a:rPr>
              <a:t>Dopo il Liceo, mi sono laureata il 17 luglio 2003 in Psicologia (laurea quinquennale) presso l’Università degli Studi Milano Bicocca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Picture 2" descr="F:\foto\2003\laurea elisa\laurea02_RJ.JPG"/>
          <p:cNvPicPr/>
          <p:nvPr/>
        </p:nvPicPr>
        <p:blipFill>
          <a:blip r:embed="rId2"/>
          <a:stretch/>
        </p:blipFill>
        <p:spPr>
          <a:xfrm>
            <a:off x="5940360" y="1557360"/>
            <a:ext cx="2160720" cy="32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3" descr="F:\foto\2003\laurea elisa\laurea13_RJ.JPG"/>
          <p:cNvPicPr/>
          <p:nvPr/>
        </p:nvPicPr>
        <p:blipFill>
          <a:blip r:embed="rId3"/>
          <a:stretch/>
        </p:blipFill>
        <p:spPr>
          <a:xfrm>
            <a:off x="755640" y="1557360"/>
            <a:ext cx="4824360" cy="321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olo 1" descr=""/>
          <p:cNvPicPr/>
          <p:nvPr/>
        </p:nvPicPr>
        <p:blipFill>
          <a:blip r:embed="rId1"/>
          <a:stretch/>
        </p:blipFill>
        <p:spPr>
          <a:xfrm>
            <a:off x="590400" y="615960"/>
            <a:ext cx="7810560" cy="1504800"/>
          </a:xfrm>
          <a:prstGeom prst="rect">
            <a:avLst/>
          </a:prstGeom>
          <a:ln w="0">
            <a:noFill/>
          </a:ln>
        </p:spPr>
      </p:pic>
      <p:sp>
        <p:nvSpPr>
          <p:cNvPr id="434" name="Sottotitolo 2"/>
          <p:cNvSpPr/>
          <p:nvPr/>
        </p:nvSpPr>
        <p:spPr>
          <a:xfrm>
            <a:off x="468360" y="5329080"/>
            <a:ext cx="8675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Sottotitolo 2"/>
          <p:cNvSpPr/>
          <p:nvPr/>
        </p:nvSpPr>
        <p:spPr>
          <a:xfrm>
            <a:off x="1835280" y="5373720"/>
            <a:ext cx="532908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000000"/>
                </a:solidFill>
                <a:latin typeface="Franklin Gothic Book"/>
              </a:rPr>
              <a:t>Dal 2005 lavoro presso l’Istituto Orsoline San Carlo di Saronno come insegnante di sostegno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2" descr="http://www.orsolinescuolalanzone.it/img/contatti_saronno.jpg"/>
          <p:cNvPicPr/>
          <p:nvPr/>
        </p:nvPicPr>
        <p:blipFill>
          <a:blip r:embed="rId2"/>
          <a:stretch/>
        </p:blipFill>
        <p:spPr>
          <a:xfrm>
            <a:off x="4643280" y="1916280"/>
            <a:ext cx="3241800" cy="32414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http://www.orsolinesaronno.it/img/banner_centenario_sanangela.gif"/>
          <p:cNvPicPr/>
          <p:nvPr/>
        </p:nvPicPr>
        <p:blipFill>
          <a:blip r:embed="rId3"/>
          <a:stretch/>
        </p:blipFill>
        <p:spPr>
          <a:xfrm>
            <a:off x="900000" y="1916280"/>
            <a:ext cx="3240360" cy="3273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21:43:23Z</dcterms:created>
  <dc:creator>ELE</dc:creator>
  <dc:description/>
  <dc:language>en-US</dc:language>
  <cp:lastModifiedBy>Elisa</cp:lastModifiedBy>
  <dcterms:modified xsi:type="dcterms:W3CDTF">2012-10-21T16:34:16Z</dcterms:modified>
  <cp:revision>86</cp:revision>
  <dc:subject/>
  <dc:title>AUTOPRESENTAZIONE</dc:title>
</cp:coreProperties>
</file>